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258-A8C2-4A80-A1CA-739B4A35D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6FB4-5AD4-49F3-BF1A-BACB2FBF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779-2FB3-4FE7-B6EF-D4AE4BC3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3E8-8118-445A-ACAA-F541A76A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ED2-DC30-4A93-818D-14F30F82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297-8109-4C16-A17E-7EBD3E2F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5FE-0387-4869-9ED6-A96AD5A9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6D4-8061-4434-9CB7-A09F40FE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D19-F724-4E73-8869-6E134077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BF7-1F44-4A28-B7BF-5ABA0F22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BA2-9DA8-4F82-9C8E-C47ECAC3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F40-8F76-497D-881E-294FF00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471-968B-4F4E-BE14-90F63C2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657-0282-4FDC-85D1-1C3ECA7C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6BAF-2DD3-4EE6-9CD8-FB20E8D1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ra Mucoll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ra Mucoll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ra Mucollar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ra Mucollar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ra Mucollar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Sara. Yo vivo en la ciudad de New York. Tengo 14 años. Yo tengo dos herman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733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puedo comer pizza?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Buenos dias!                                                                                        Sar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én quiere comer pizz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4:01:12Z</dcterms:created>
  <dc:creator>FriscoISD</dc:creator>
  <dc:description/>
  <dc:language>en-US</dc:language>
  <cp:lastModifiedBy>NYCDOE</cp:lastModifiedBy>
  <dcterms:modified xsi:type="dcterms:W3CDTF">2012-12-05T14:16:54Z</dcterms:modified>
  <cp:revision>102</cp:revision>
  <dc:subject/>
  <dc:title>Profile</dc:title>
</cp:coreProperties>
</file>